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5B63-0AFD-4572-AB60-0696BD5A0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 ontology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is by its nature intertwined with CA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GO by the process and its particip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GO by the process and its particip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O E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u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do not have cerebral corext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2638-B6A7-448F-BED7-8D5D1007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D00-AAE3-4926-B577-B4FB4BD2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E74-CA23-416B-8A90-82C2D803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6FC7-37D8-4BB2-9198-BCB68769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5D67-4024-40AA-BEAA-4D359DB1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C78A-3F72-4CE4-9221-542364C8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8C07-0DDB-4109-A163-D19681D7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FDB-3B07-4CAF-817F-CCD04BCE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C786-9A03-4E17-BD99-91488613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18E4-463C-4EBE-83F8-EB6BDE4B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82C3-B097-49DA-A623-1E1D37A4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8D5D-252E-41F9-B78A-0A06BD4A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64C3-B8B6-4D74-8CF8-AE30D2566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pplication of OBO Foundry Principles in G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590920"/>
            <a:ext cx="7086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awrence Berkeley Lab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CB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 Consortiu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O is both reference and application ont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same artefact (i.e. file) is used for both ontology editing and data annot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s has worked reasonably well until n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may encourage making a disti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lication views (aka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GO slim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urrently only used to present a very small subset of G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nsider wider use for extracting most of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lations in GO (current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nforms to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R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X part_of Y: all Xs are part_of some Y (for the entirety of the duration of the existence of the X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4388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.g. nucleus </a:t>
            </a: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cell (all nuclei are always part_of a cell, not all cells have a nucleus as part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 both continuants and process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4388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no ordering for process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rt-of conforms to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R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X is_a Y: all Xs are Ys (for the entirety of Xs existence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ut there are issues with is_a in GO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4388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incompletenes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34388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polyhierarchi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s a has issu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ot all GO types hav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par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 a problem in MF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xed in CC (July 2006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ing fixed in BP (Sept 2006: right now, here in Seattl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ill a contentious issue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completion requires new high-level types in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rceived as being too abstract by biologis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mple solution: application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move high level terms in annotation view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polyhierarch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iamonds cause proble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angled DAGs, easy to make mistak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urce of problems typically due to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multiple axes of classific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ue to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composite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nus - differentia (aristotelian) defini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ka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cross-products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[Hill et al]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ways a single genu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hoose consistent axis of classific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ow classifier/reasoner to provide different views of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953680" y="4648320"/>
            <a:ext cx="316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 tangled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in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" y="4572000"/>
            <a:ext cx="250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mixes (at le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two </a:t>
            </a: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ax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486400" y="457200"/>
            <a:ext cx="129528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1143000"/>
            <a:ext cx="121896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1143000"/>
            <a:ext cx="144792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1752480"/>
            <a:ext cx="1447560" cy="4572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438280"/>
            <a:ext cx="609480" cy="533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657600"/>
            <a:ext cx="1828800" cy="8380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1840" y="457200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83880" y="4098960"/>
            <a:ext cx="3912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cy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serine family 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43200" y="457200"/>
            <a:ext cx="175248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400" y="1143000"/>
            <a:ext cx="76320" cy="4572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1828800"/>
            <a:ext cx="7632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-83880" y="4098960"/>
            <a:ext cx="3912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cy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serine family 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se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562720" y="1143000"/>
            <a:ext cx="121896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828800"/>
            <a:ext cx="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276360" y="2438280"/>
            <a:ext cx="1066680" cy="533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solution: separate the ax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5181480"/>
            <a:ext cx="3504960" cy="99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cysteine biosynthesis (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ill Sans"/>
              </a:rPr>
              <a:t>Genus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biosyn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ill Sans"/>
              </a:rPr>
              <a:t>Differentia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has_outcome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cyste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352680"/>
            <a:ext cx="1828800" cy="643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biosynthesis (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828800"/>
            <a:ext cx="1828800" cy="373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metabolism (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3429000"/>
            <a:ext cx="1828800" cy="373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cysteine (ChEB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676520"/>
            <a:ext cx="1851120" cy="9126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serine family amino acid (ChEB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599840" y="3733560"/>
            <a:ext cx="1219320" cy="190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24480" y="3809520"/>
            <a:ext cx="129564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447920" y="22093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620120" y="22856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5320" y="5486400"/>
            <a:ext cx="182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Gill Sans"/>
              </a:rPr>
              <a:t>compu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Gill Sans"/>
              </a:rPr>
              <a:t>genus-different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Gill Sans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752480" y="5943600"/>
            <a:ext cx="1067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ute the subsumption DAG from the defini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5181480"/>
            <a:ext cx="3504960" cy="99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cysteine biosynthesis (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ill Sans"/>
              </a:rPr>
              <a:t>Genus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biosyn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ill Sans"/>
              </a:rPr>
              <a:t>Differentia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has_outcome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cyste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3124080"/>
            <a:ext cx="243828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cysteine metabolism (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3048120"/>
            <a:ext cx="2457360" cy="643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serine family amino acid biosynthesis (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286000" y="3580920"/>
            <a:ext cx="18288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72000" y="3657240"/>
            <a:ext cx="167652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286000" y="2133360"/>
            <a:ext cx="14479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5105160" y="2209320"/>
            <a:ext cx="11430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53000" y="4419720"/>
            <a:ext cx="290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DAG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uch as an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O is 3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lecular function (MF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iological Process (BP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ellular component (CC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e- and post- composi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ferences to types can be pre-composed in ontology, prior to anno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tology editor creates term, with I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 reasoners to classify the DAG automatical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ferences to types can be post-composed (created on the fly) at annotation ti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 term with ID is crea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putationally,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t makes no differ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vided we adhere to the genus-differentia formalis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O Foundry practices and pre-composi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re-composition of terms in the ontology is good as it creates a map of biological reality, linking foundry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in reas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 Biological Process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OBO Ce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neuron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migr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cone cell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 fate specific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T cel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homeostasi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erythroc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degranu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BO Cell is species-neutr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ability to effectively created computationally visible genus-differentia definitions is new to most OBO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on to be created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 (many terms now don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-BP definitions referencing OBO-Cel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O Disease definitions referencing FM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ifficult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-BP and ChEBI (chemical entitie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-BP and anatomy (we need CARO!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evelopment in GO (current)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"/>
          <p:cNvSpPr/>
          <p:nvPr/>
        </p:nvSpPr>
        <p:spPr>
          <a:xfrm>
            <a:off x="3967560" y="4343400"/>
            <a:ext cx="228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0600" y="373392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2971800"/>
            <a:ext cx="23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68880" y="2286000"/>
            <a:ext cx="26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440" y="56386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095880" y="4038120"/>
            <a:ext cx="533520" cy="38124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943600" y="2590920"/>
            <a:ext cx="533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886200" y="6248520"/>
            <a:ext cx="533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87880" y="63244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part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41480" y="175248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morphogen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4571640" y="2133720"/>
            <a:ext cx="1676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657600" y="2133720"/>
            <a:ext cx="533520" cy="228600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51080" y="6477120"/>
            <a:ext cx="136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is_a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not sh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evelopment in GO (future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46483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4038480"/>
            <a:ext cx="152280" cy="152640"/>
          </a:xfrm>
          <a:prstGeom prst="upArrow">
            <a:avLst>
              <a:gd name="adj1" fmla="val 50000"/>
              <a:gd name="adj2" fmla="val 2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35053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25909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0481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20" y="2209680"/>
            <a:ext cx="24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resumptive spinal 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6400" y="2743200"/>
            <a:ext cx="13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9720" y="320040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ke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9440" y="3657600"/>
            <a:ext cx="117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r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1800" y="41911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1880" y="487692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pinal 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64771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0120" y="6400800"/>
            <a:ext cx="15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ransformation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16765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7560" y="4343400"/>
            <a:ext cx="228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50600" y="373392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1676160" y="4419360"/>
            <a:ext cx="2438280" cy="1522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676160" y="3962520"/>
            <a:ext cx="4647960" cy="3808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2971800"/>
            <a:ext cx="23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68880" y="2286000"/>
            <a:ext cx="26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599840" y="2971440"/>
            <a:ext cx="2438280" cy="1522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600200" y="2514600"/>
            <a:ext cx="4648320" cy="3808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33360" y="6553080"/>
            <a:ext cx="1066680" cy="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07440" y="6248520"/>
            <a:ext cx="130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has_particip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5440" y="56228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440" y="56386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095880" y="4038120"/>
            <a:ext cx="533520" cy="38124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943600" y="2590920"/>
            <a:ext cx="533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886200" y="6248520"/>
            <a:ext cx="533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87880" y="63244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part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81480" y="5638680"/>
            <a:ext cx="381024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neural tub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Genus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tube 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Differentia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has_outcome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neural tu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464832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41480" y="175248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morphogen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4571640" y="2133720"/>
            <a:ext cx="1676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3657600" y="2133720"/>
            <a:ext cx="533520" cy="228600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O is 3 </a:t>
            </a:r>
            <a:r>
              <a:rPr b="0" lang="en-US" sz="4400" spc="-1" strike="noStrike">
                <a:solidFill>
                  <a:srgbClr val="ff0000"/>
                </a:solidFill>
                <a:latin typeface="Gill Sans"/>
              </a:rPr>
              <a:t>orthogonal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a kind of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dependent continua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a kind of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occurr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a kind of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independent continua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O is 3 </a:t>
            </a:r>
            <a:r>
              <a:rPr b="0" lang="en-US" sz="4400" spc="-1" strike="noStrike">
                <a:solidFill>
                  <a:srgbClr val="ff0000"/>
                </a:solidFill>
                <a:latin typeface="Gill Sans"/>
              </a:rPr>
              <a:t>orthogonal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ontologies of </a:t>
            </a:r>
            <a:r>
              <a:rPr b="0" lang="en-US" sz="4400" spc="-1" strike="noStrike">
                <a:solidFill>
                  <a:srgbClr val="0000ff"/>
                </a:solidFill>
                <a:latin typeface="Gill Sans"/>
              </a:rPr>
              <a:t>canonical biology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a kind of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dependent continua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a kind of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occurr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a kind of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independent continua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"/>
          <p:cNvSpPr/>
          <p:nvPr/>
        </p:nvSpPr>
        <p:spPr>
          <a:xfrm>
            <a:off x="6154200" y="3260880"/>
            <a:ext cx="291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ogen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92160" y="3048120"/>
            <a:ext cx="67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Gill Sans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4040" y="5486400"/>
            <a:ext cx="388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 regener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63400" y="5638680"/>
            <a:ext cx="148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Gill Sans"/>
              </a:rPr>
              <a:t>y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2200" y="5500800"/>
            <a:ext cx="299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quisition of nutr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103680" y="5562720"/>
            <a:ext cx="148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Gill Sans"/>
              </a:rPr>
              <a:t>y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O is 3 </a:t>
            </a:r>
            <a:r>
              <a:rPr b="0" lang="en-US" sz="4400" spc="-1" strike="noStrike">
                <a:solidFill>
                  <a:srgbClr val="ff0000"/>
                </a:solidFill>
                <a:latin typeface="Gill Sans"/>
              </a:rPr>
              <a:t>orthogonal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Gill Sans"/>
              </a:rPr>
              <a:t>canonical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4400" spc="-1" strike="noStrike">
                <a:solidFill>
                  <a:srgbClr val="99cc00"/>
                </a:solidFill>
                <a:latin typeface="Gill Sans"/>
              </a:rPr>
              <a:t>species-neutral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core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e shared processes (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transcrip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cesses specific to organism types (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in development, fly courtship behaviou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karyotes and eukaryot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762120" y="152280"/>
          <a:ext cx="5876640" cy="655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280"/>
                    <a:ext cx="587664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7165800" y="271440"/>
            <a:ext cx="114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4343400"/>
            <a:ext cx="3200400" cy="99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4572000"/>
            <a:ext cx="1371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4724280"/>
            <a:ext cx="1371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4876920"/>
            <a:ext cx="1371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5105520"/>
            <a:ext cx="1371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5257800"/>
            <a:ext cx="1371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4724280"/>
            <a:ext cx="8380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914400"/>
            <a:ext cx="9144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2514600"/>
            <a:ext cx="8380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ranularity of the G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04920" y="1981080"/>
          <a:ext cx="8153280" cy="4224600"/>
        </p:xfrm>
        <a:graphic>
          <a:graphicData uri="http://schemas.openxmlformats.org/drawingml/2006/table">
            <a:tbl>
              <a:tblPr/>
              <a:tblGrid>
                <a:gridCol w="2235240"/>
                <a:gridCol w="1973160"/>
                <a:gridCol w="1971720"/>
                <a:gridCol w="1973160"/>
              </a:tblGrid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roc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ontinu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olec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M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(Sub?)Cell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Organis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O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an ontology, with rich terminological featur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 ‘terms’ are actually representations of types (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ak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kinds, universals, class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actu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erms (i.e. the phrases used by biologists) are attached to the representations of types as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na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synony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ynonyms have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linguistic relations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to the GO typ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xact, broad, narrow, relat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istinct from ontological relations between GO typ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s_a, part_of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 is moving to genus-differentia style defini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ny definitions are still dictionary-style, terminologic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scribe how the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ter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is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us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enus differentia defini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2666880"/>
            <a:ext cx="5486400" cy="221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central nervous system morphogen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ill Sans"/>
              </a:rPr>
              <a:t>Genus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morphogen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ill Sans"/>
              </a:rPr>
              <a:t>Differentia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has_outcome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central nervous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The process by which the </a:t>
            </a:r>
            <a:r>
              <a:rPr b="0" i="1" lang="en-US" sz="1600" spc="-1" strike="noStrike">
                <a:solidFill>
                  <a:srgbClr val="ff0000"/>
                </a:solidFill>
                <a:latin typeface="Gill Sans"/>
              </a:rPr>
              <a:t>anatomical structure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of the </a:t>
            </a:r>
            <a:r>
              <a:rPr b="0" i="1" lang="en-US" sz="1600" spc="-1" strike="noStrike" u="sng">
                <a:solidFill>
                  <a:srgbClr val="0000ff"/>
                </a:solidFill>
                <a:uFillTx/>
                <a:latin typeface="Gill Sans"/>
              </a:rPr>
              <a:t>central nervous system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is </a:t>
            </a:r>
            <a:r>
              <a:rPr b="0" i="1" lang="en-US" sz="1600" spc="-1" strike="noStrike">
                <a:solidFill>
                  <a:srgbClr val="ff0000"/>
                </a:solidFill>
                <a:latin typeface="Gill Sans"/>
              </a:rPr>
              <a:t>generated and orga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6:34:38Z</dcterms:created>
  <dc:creator>Chris Mungall</dc:creator>
  <dc:description/>
  <dc:language>en-US</dc:language>
  <cp:lastModifiedBy>Chris Mungall</cp:lastModifiedBy>
  <dcterms:modified xsi:type="dcterms:W3CDTF">2006-09-08T21:13:56Z</dcterms:modified>
  <cp:revision>670</cp:revision>
  <dc:subject/>
  <dc:title>Ontologies for biological annotation</dc:title>
</cp:coreProperties>
</file>